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03400" y="1203480"/>
            <a:ext cx="7808400" cy="4970880"/>
            <a:chOff x="1103400" y="1203480"/>
            <a:chExt cx="7808400" cy="4970880"/>
          </a:xfrm>
        </p:grpSpPr>
        <p:sp>
          <p:nvSpPr>
            <p:cNvPr id="89" name=""/>
            <p:cNvSpPr/>
            <p:nvPr/>
          </p:nvSpPr>
          <p:spPr>
            <a:xfrm>
              <a:off x="1103400" y="1203480"/>
              <a:ext cx="7808400" cy="497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1360" y="1203480"/>
              <a:ext cx="7727040" cy="49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70000" y="1227240"/>
            <a:ext cx="765000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18.03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5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L Platform planning title has been opened and is currently under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t PV account needs to be ope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lead-free soldering – new problems appeared in Phoenix/Sirius B1+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zation period between SW S25 and first DS only 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isk release of SGL with G15 mask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E RF-solution implemented in Adonis – high power consumption in talk mode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GL G15 and Mozart+/Twigo+ not possible for all products due to huge stocks from R65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 II SW team installed lead by A. Betting for remaining R65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-IDB4 will be set up on 18.04.05 and will be used for X75 products Phoenix, Sirius, Adonis &amp; 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P solution has been found and major activities finished. Investigations on certain PTT applications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 SW is very stable (see Phoenix/Siri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PTT User Interface for Vodafone still can not be committed – investiga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5108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0976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47508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4184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07T05:16:02Z</dcterms:modified>
  <cp:revision>711</cp:revision>
  <dc:subject/>
  <dc:title>PowerPoint Presentation</dc:title>
</cp:coreProperties>
</file>